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33A7-ADC7-4609-BC3D-683FBA3D0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DC59-0ABA-4B22-A5C1-ACD445E2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0588-F91A-4975-9396-BC14D1345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34EE-5B24-4F12-AB69-0CAE3C11B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4FCB-059F-4F86-A20E-18F77A93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6C27-77C5-4303-8692-AF1796BF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1AC0-CA92-41A0-AFAE-FFEF6480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6845-7A75-4A90-BC9E-B2271325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7F71-AC6C-4FF3-99E3-398A9D5B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3789-BEA1-4A51-8949-8CB97FD0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DA71-3810-4F1C-B414-238DA4BF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86B6-27CB-4466-90D0-E9CBFF68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0935-919F-47FF-932C-D9252746E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28560" y="977760"/>
            <a:ext cx="7602480" cy="4977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11280" y="979560"/>
            <a:ext cx="7589880" cy="4970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3080" y="3159000"/>
            <a:ext cx="9036000" cy="1708560"/>
          </a:xfrm>
          <a:prstGeom prst="rect">
            <a:avLst/>
          </a:prstGeom>
          <a:solidFill>
            <a:srgbClr val="f3e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Состояние лицензирования фармацевтической деятельности и деятельности, связанной с оборотом наркотических средств и психотропных веществ в Республике Татарста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00720" y="5945040"/>
            <a:ext cx="3708360" cy="871560"/>
          </a:xfrm>
          <a:prstGeom prst="rect">
            <a:avLst/>
          </a:prstGeom>
          <a:solidFill>
            <a:srgbClr val="f3e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Заместитель министра здравоохранения Республики Татарстан Залалдинов Р.С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213F-450D-48B0-BA4E-5A5D13B774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036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е обеспечивается соблюдение правил хранения лекарственных средст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аптеки имеют один холодильник, для хранения препаратов используются бытовые холодильные камеры, в помещениях часто повышенная влажность, используется только естественная вытяж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е предоставляется характеристик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бъект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лицензирован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набор помещений, системы водоснабжения, канализации, вентиляции, электроснабжения, оборудование, мебель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15920"/>
            <a:ext cx="9144000" cy="8636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cc"/>
                </a:solidFill>
                <a:latin typeface="Arial"/>
              </a:rPr>
              <a:t>По документам, подтверждающим соблюдение</a:t>
            </a:r>
            <a:br>
              <a:rPr sz="2700"/>
            </a:br>
            <a:r>
              <a:rPr b="1" lang="en-US" sz="2700" spc="-1" strike="noStrike">
                <a:solidFill>
                  <a:srgbClr val="0033cc"/>
                </a:solidFill>
                <a:latin typeface="Arial"/>
              </a:rPr>
              <a:t>лицензионных требований и условий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50FA-EC8F-402B-B99E-4717A6BB80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1079280"/>
            <a:ext cx="90360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руководитель фармацевтической организации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не имеет высшего фармацевтического образов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не предоставляются копии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дипломов и сертификато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специалисто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не предоставляется сертификат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провизора, прошедшего обучение по специальности фармацевтическая химия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(при заявлении права изготовления лекарственных форм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отсутствуют документы, объясняющие причину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наличия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разных фамилий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в дипломе и сертификате специали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15920"/>
            <a:ext cx="9144000" cy="8636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По документам, подтверждающим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квалификацию сотрудник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C9EF-A747-4696-BF29-E7DC2D9EF7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4920" y="1125000"/>
            <a:ext cx="9036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заявлени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 указываются или указываются неверн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именование, организационно-правовая форма, адре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юридического лица, местонахождение его территориальных отде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верно указываются виды деятельности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 которые запрашивается лицен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сутствуют необходимые документы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дтверждающие прав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 осуществление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сутствует подпись/печа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юридического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заключении по технической укрепленности объектов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 конкретизирован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сположение используемых помещений по плану Б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17360"/>
            <a:ext cx="9144000" cy="8636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Ошибки оформления документов на 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осуществление деятельности по Спискам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I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0169-B66E-478D-BAB5-DD77D85959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4920" y="907560"/>
            <a:ext cx="903600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еемственности и действенного взаимодейств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 территориальным Управлением Росздравнадзора по Республике Татарстан, с республиканскими министерствами и ведомст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максимальной открытости и гласности процедур лицензирован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для муниципальных и частных медицинских и аптечных 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облюдения законности и принципов защиты пра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юридических и физических лиц при проведении лицензионного контрол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презумпция добросовестности; доступность нормативных правовых актов, устанавливающих обязательные требования; целевой характер контрольных мероприятий; проведение их уполномоченными должностными лицами и специалистами; конфиденциаль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еального влияния процедуры лицензирован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а повышение качества оказания медицинской и лекарственной помощ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аселению республик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15920"/>
            <a:ext cx="9144000" cy="649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Принципиальным при реализации переданных полномочий</a:t>
            </a:r>
            <a:br>
              <a:rPr sz="2200"/>
            </a:b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по лицензированию считаю необходимость обеспечени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3786-9794-4353-B0FE-69F05CE549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4920" y="2421000"/>
            <a:ext cx="90360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420012, г. Казан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ул. Бутлерова, д. 16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3 этаж, кабинет №7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телефон/факс (843) 236-13-15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89000"/>
            <a:ext cx="9144000" cy="18716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Координаты отдела по лицензированию фармацевтической деятельности и деятельности, связанной с оборотом наркотических средств и психотропн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2FEC-A3C4-45AB-B240-4E4FB613C2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4560" y="1125360"/>
            <a:ext cx="9001080" cy="566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4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лицензирования медицинской деятельности организаций муниципальной и частной систем здравоохранения</a:t>
            </a: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99"/>
                </a:solidFill>
                <a:latin typeface="Arial"/>
              </a:rPr>
              <a:t>(за исключением деятельности по оказанию высокотехнологичной медицинской помощи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лицензирования фармацевтической деятельности</a:t>
            </a: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99"/>
                </a:solidFill>
                <a:latin typeface="Arial"/>
              </a:rPr>
              <a:t>(за исключением деятельности, осуществляемой организациями оптовой торговли лекарственными средствами и аптеками федеральных организаций здравоохранения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лицензирования деятельности, связанной с оборотом наркотических средств и психотропных веществ</a:t>
            </a: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99"/>
                </a:solidFill>
                <a:latin typeface="Arial"/>
              </a:rPr>
              <a:t>(за исключением деятельности, осуществляемой организациями оптовой торговли лекарственными средствами и аптеками федеральных организаций здравоохранения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осуществление контроля за соответствием качества оказываемой медицинской помощи установленным федеральным стандартам в сфере здравоохранения</a:t>
            </a: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99"/>
                </a:solidFill>
                <a:latin typeface="Arial"/>
              </a:rPr>
              <a:t>(за исключением контроля качества высокотехнологичной медицинской помощи, а также медицинской помощи, оказываемой в федеральных организациях здравоохранения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4436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Федеральным законом от 29.12.2006 года №258-ФЗ с 1 января 2008 года в субъекты переданы полномочия Российской Федерации в области охраны здоровья граждан, в ча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F938-EE10-48D5-B256-C3B27B19AE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4560" y="1125000"/>
            <a:ext cx="9001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издан Указ Президента Республики Татарстан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.Ш. Шаймиева,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которым установлено, что с 1 января 2008 года перечисленные полномочия осуществляет Министерство здравоохранения Республики Татарс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Кабинетом Министров Республики Татарстан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внесены соответствующие изменения в Положение о Министерстве здравоохранения Республики Татарстан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ыделено 7 штатных единиц,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редоставлено оборудованное поме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44360"/>
            <a:ext cx="9144000" cy="763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В целях осуществления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Республикой Татарстан переданных полномо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794D-C11D-476A-B1B6-F8DBA395CD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4560" y="1414080"/>
            <a:ext cx="900108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5 муниципальных учреждений здравоохранения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осуществляющих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фармацевтическую деятельность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(Азнакаевская, Бугульминская ЦРБ, Нижнекамская районная больница, детская городская больница г. Нижнекамска, городская клиническая больница №5 г. Казани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116 частных аптечных учреждений,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осуществляющих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фармацевтическую деятельность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52 муниципальных медицинских учреждений,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осуществляющих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деятельность, связанную с оборотом психотропных вещест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5920"/>
            <a:ext cx="9144000" cy="10094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В связи с окончанием срока действия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лицензий в 2008 году подлежат лицензированию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и переоформлению лиценз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2A66-3A22-41CB-ABD9-64C3B8D031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7640" y="1341360"/>
            <a:ext cx="8893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принято 40 заявлений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соискателей лицензий и лицензиатов, из них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27 на предоставление и 2 на переоформление лицензий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по 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фармацевтической деятель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7 на переоформления лицензий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по деятельности, связанной с оборотом наркотических средств и психотропных веществ, внесенных в 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Список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4 на переоформления лицензий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по деятельности, связанной с оборотом психотропных веществ, внесенных в 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Список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I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42920"/>
            <a:ext cx="9144000" cy="1054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За 1,5 месяца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 специалистами отдела по лицензированию фармацевтической деятельности и деятельности, связанной с оборотом наркотических средств и психотропных вещест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2470-77E5-49AA-95D2-6A71A5850A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 algn="just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осуществлена 51 проверк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возможности выполнения соискателями лицензионных требований и условий при осуществлении фармацевтической деятельности на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заявленных объект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подготовлены и проведены 3 заседания лицензионной комиссии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на которых приняты решения по предоставлению (17) и переоформлению лицензий (1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отказано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в предоставлении лицензии на осуществление фармацевтической деятельности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ООО «Источник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составлен протокол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об административном правонарушении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на аптечный пункт ООО «Аделина»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г. Зеленодольс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подготовлен приказ о досрочном прекращении действия лицензий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на осуществление фармацевтической деятельности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по 9 заявлениям лицензиа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4280"/>
            <a:ext cx="9144000" cy="936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За 1,5 месяца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 специалистами отдела по лицензированию фармацевтической деятельности и деятельности, связанной с оборотом наркотических средств и психотропных вещест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9B60-0C0E-40E9-AF81-AB9C9320FE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4560" y="1268280"/>
            <a:ext cx="9001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По заявлениям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е указываетс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индекс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адреса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юридический, фактический, объекта и налоговой инспе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е прописывается четк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ид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тсутствую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одпись руководителя учреждения и печ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е указывается ви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аптечного объ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15920"/>
            <a:ext cx="9144000" cy="8636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cc"/>
                </a:solidFill>
                <a:latin typeface="Arial"/>
              </a:rPr>
              <a:t>Типичные ошибки оформления документов</a:t>
            </a:r>
            <a:br>
              <a:rPr sz="3000"/>
            </a:br>
            <a:r>
              <a:rPr b="1" lang="ru-RU" sz="3000" spc="-1" strike="noStrike">
                <a:solidFill>
                  <a:srgbClr val="0033cc"/>
                </a:solidFill>
                <a:latin typeface="Arial"/>
              </a:rPr>
              <a:t>на осуществление фармдеятель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358C-D2C2-403E-A1B3-3483E76F76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42560" y="1125000"/>
            <a:ext cx="88930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не указывается лицензируемый вид деятельности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в Уставе юридического лиц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не предоставляется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копия паспорта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индивидуальными предпринимателям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отсутствует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приказ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о назначении руководителя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юридического лиц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не представляется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свидетельство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о регистрации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юридического лиц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отсутствует уведомление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о постановке на налоговый учет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объекта или подраздел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17360"/>
            <a:ext cx="9144000" cy="6476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Arial"/>
              </a:rPr>
              <a:t>По учредительным документам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AB30-1D96-4C5E-9F1A-A521DB0150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036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не зарегистрирован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договор аренды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в регистрационной палате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на срок год и боле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не предоставляется свидетельство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права собственности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арендодател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не регистрируется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в регистрационной палате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право оперативного управления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хозяйственного ведения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договор субаренды заключается без   разрешения собственни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не предоставляется план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и экспликация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БТ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не предоставляется акт приема-передачи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помещения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и приложения к договор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5920"/>
            <a:ext cx="9144000" cy="8636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Arial"/>
              </a:rPr>
              <a:t>По документам, подтверждающим</a:t>
            </a:r>
            <a:br>
              <a:rPr sz="2600"/>
            </a:br>
            <a:r>
              <a:rPr b="1" lang="en-US" sz="2600" spc="-1" strike="noStrike">
                <a:solidFill>
                  <a:srgbClr val="0033cc"/>
                </a:solidFill>
                <a:latin typeface="Arial"/>
              </a:rPr>
              <a:t>право законного пользования помещени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B40F-9BD4-4416-8EBA-215DB6DD2C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1:59:09Z</dcterms:created>
  <dc:creator>bulgakov</dc:creator>
  <dc:description/>
  <dc:language>en-US</dc:language>
  <cp:lastModifiedBy>esarandaev</cp:lastModifiedBy>
  <dcterms:modified xsi:type="dcterms:W3CDTF">2008-03-19T13:25:18Z</dcterms:modified>
  <cp:revision>261</cp:revision>
  <dc:subject/>
  <dc:title>Слайд 1</dc:title>
</cp:coreProperties>
</file>